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401A-9933-4F3B-B35A-7C02F265D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8BAD-45CF-4C29-88AC-CC2704D8E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0A80-F3B9-4694-AE9B-14E3E797E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E6E6-5C9E-40E4-B867-20C36FD18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A9C0-D42E-4B2F-8C69-6799F6CFF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0312-6EEE-4CD7-8589-60284AF55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53FD-A0FF-4C83-80A5-611E28A51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1F08-63C7-4DA5-8FCC-53B28178D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E9A2-AA98-4F61-A051-C87A62ADE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7715-0E6A-45F2-AC72-525E7519E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0991-1B96-47AA-8F4F-74D5199C2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0B2E-5437-4F35-808E-10E40C1F6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3A3B-7B2C-4B50-BF19-9ABD2F505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AD5F-94CC-4572-9CCE-AD6283668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CE7C6-92F3-43C8-BFE5-B4FA9F5BB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3EE27-C53C-4DB9-AF1E-961FF53DA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B62EF-3644-4016-8B78-8991F620E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9A96D-1CF2-4AEC-9E0B-15DEFC545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162-205F-49A9-B58E-CB5309CFDC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889-95CE-4255-9CF4-D3651B75D8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75B6-CCD3-4E89-BBA4-89E19A456D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0666-0BBE-4929-A487-244A4ACC0C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6D9B-E6C6-45F5-82BA-3A0954EC87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26E3-AA18-4E12-A682-D9A77CC506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85CF-E1D7-4421-AE2E-5B10EAEA98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B0855-B070-4148-A155-072FB43DC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8192-A790-4E34-83C7-2B2F1DC34A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1937-1C27-4900-A4E5-DC7DD27564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35C3-D8D1-4EC5-945D-F0BD3A8322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F366-4D9E-4E42-8C23-2CCA330F04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228F-1A3A-4A21-93D6-72C6C2470A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3B2DA-7A9B-446B-A537-7957C54075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0205D-C3EA-4447-8259-5CD6B1D90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C8123-C0B4-40BC-8D01-AC3AD511A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69F95-AEEF-43C9-9F40-A88FF19C1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B0BF5-8623-4999-9828-15BAC4FD8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C456E-4A5A-44C1-B50B-DC5F32CFC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C64E-6605-46A6-882A-A2D646B74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47560" y="640008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7524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A432-6FE3-4711-BBEE-6A69ED3F35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1585-7F63-479C-BC1B-6C48205E9D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00BE-B666-4939-A5D8-092D1C399C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1668240"/>
            <a:ext cx="5181840" cy="25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Организация программы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внешней оценки качества (ВОК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CC63-58BC-422B-A276-7630A695C0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120" y="2133360"/>
            <a:ext cx="807732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направленность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правила конфиденци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благодарности, признание вкл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онтактн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алендарный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A37A-626E-47A3-8B28-FD4A830D4A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Отслеж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31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омментариев, отзывов на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оли «арбитра» организатора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замечаний и рекомендаций от участвующих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путей решения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способов для рекомендации определенных мет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28796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495680"/>
            <a:ext cx="5105160" cy="1447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Отлично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  <a:ea typeface="SimSun"/>
              </a:rPr>
              <a:t>!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Так и должно б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5140-670A-43C4-83B2-4BEF293515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участвовать в международной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прос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ма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еред началом проведите испы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хорошим планом по взаимодействию и обмену информ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будьте очень внимательны к комментариям и отзы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Verdana"/>
                <a:ea typeface="SimSun"/>
              </a:rPr>
              <a:t>Запуск программы ВОК для всей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B169-32DF-49FB-8997-BA74F8FBB2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41440" y="1209240"/>
            <a:ext cx="40258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7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9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9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9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20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20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21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21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22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22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22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Footer Placeholder 1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533520" y="627660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D57E-FEE1-4053-A8AB-DE706C5546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Типы В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ая программа проверки 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ть лабораторий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жлабораторные сравнения, пере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ка на 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533520" y="642924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3CE4-98DA-4A5F-A55D-778171FE31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45820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Для организатора ВОК необходимо предшествующее (успешное!) участие в программе В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SimSun"/>
              </a:rPr>
              <a:t>участие в международной програм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 (для организатора национальной програм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тслеживание качества в своей л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еобходимо и обяза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опрос об уверенности в своих си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DE5E-98DB-479B-928F-23EC05E9D6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4928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1320" y="1828800"/>
            <a:ext cx="834372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ходит в сферу их полномо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еспеч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66"/>
                </a:solidFill>
                <a:latin typeface="Verdana"/>
                <a:ea typeface="SimSun"/>
              </a:rPr>
              <a:t>долгосроч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и способы обмена информаци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вязь с органами по лицензированию, сертификации, аккредит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финансирование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мероприят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ВОК приводят к эконом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, финансирова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их оправдан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4343400"/>
            <a:ext cx="21337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F91D-A119-492D-9F5E-BDC7932E57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прост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3059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 компетен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шенные или неокраш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по Гра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на К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араз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бактериальных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ишечных микроорганизмов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ере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УБ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Гра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МЖ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другие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бактериальные штаммы, если имеются материальные и технические возможности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ллекция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5943600" y="22716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4267080" y="243828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1D97-D56B-42A6-84C7-85D952A4F9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09588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мал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246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большое число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регион для испы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верьте вариа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транспорти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и на ан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(еще не участвующие в программ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ервая проверка на простых задачах (предметные стек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й в течение 1-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бы в одной рассылке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 реже 2 раз в год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j0278576"/>
          <p:cNvPicPr/>
          <p:nvPr/>
        </p:nvPicPr>
        <p:blipFill>
          <a:blip r:embed="rId1"/>
          <a:stretch/>
        </p:blipFill>
        <p:spPr>
          <a:xfrm>
            <a:off x="6477120" y="1447920"/>
            <a:ext cx="2151000" cy="25905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8"/>
          <p:cNvSpPr/>
          <p:nvPr/>
        </p:nvSpPr>
        <p:spPr>
          <a:xfrm rot="19759200">
            <a:off x="6934320" y="19810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A376-E60F-4B0C-9D4F-EA858095CD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 начале избегайт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«особо опасных»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атог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инфекционных сывор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полняйте национальные правила по транспортир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590D-49D3-4B04-A47C-9448978825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2320"/>
            <a:ext cx="62481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Требующаяся инфра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076120"/>
            <a:ext cx="42670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бочий 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ебольшая 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nhls2"/>
          <p:cNvPicPr/>
          <p:nvPr/>
        </p:nvPicPr>
        <p:blipFill>
          <a:blip r:embed="rId1"/>
          <a:stretch/>
        </p:blipFill>
        <p:spPr>
          <a:xfrm>
            <a:off x="5105520" y="2131920"/>
            <a:ext cx="335268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89CE-83F5-4CEE-A8DC-2453A29E51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 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9132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частвующими лаборатор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шестоящими орга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аучными сооб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фессиональными ассоциа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юбыми другими сторонами, заинтересованными в 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6781680" y="2585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«В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Olga</cp:lastModifiedBy>
  <dcterms:modified xsi:type="dcterms:W3CDTF">2013-05-15T13:57:15Z</dcterms:modified>
  <cp:revision>52</cp:revision>
  <dc:subject/>
  <dc:title>EQA scheme Organization optional</dc:title>
</cp:coreProperties>
</file>